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856-4869-48FE-915D-52C8EF9B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4F9-D141-42BB-B472-9C990A87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174-CB8D-4AF3-BE7D-350941D6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DCD-AB31-4F5B-B466-1A32B39D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1D8-0649-49E5-AE73-F88E378B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F2E-58CE-4A3D-88CF-A92FE373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E7A-CE5E-4890-B704-45EE5274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F7A-6E02-4BD7-B37E-A553142E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723-A37B-4982-A545-80031135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11B-C8E0-4179-BF9F-B5B5CA67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F07-8584-433F-9348-32417AED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A21-33DA-4E92-BCC6-818D27B6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3CB5-C31D-401E-AE23-F945E0E14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4480" y="0"/>
            <a:ext cx="9372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LD LIT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t Portfolio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na Marie Pelle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na Christine Gayan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presents a language or a people: culture and tradition. But, literature is more important than just a historical or cultural artifact. Literature introduces us to new worlds of experience. We learn about books and literature; we enjoy the comedies and the tragedies of poems, stories, and plays; and we may even grow and evolve through our literary journey with book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on for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reating this unit, we wa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 meaning in literature by looking at what the author says and how he/she say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the author's mess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literature through the use of critical paradig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roject will help my students develop 2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ntury skills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mmunication with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ing Collab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 about Literature and drawing conclusions to answer cfq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ill we be without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mportance of literature in our l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lation of literature to huma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get from studying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jor forms of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ritical approaches to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get from studying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unit,our students will work on as th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the bigger ideas behind the content they learn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critically and logically to make relationships between evidence and 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ests for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ways to help students understand the meaning of life and the purpose of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help assessing students’ higher-order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adds to reality, it does not simply describe it. It enriches the necessary competencies that daily life requires and provides; and in this respect, it irrigates the deserts that our lives have already become.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C. S. Lew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he difficulty of literature is not to write, but to write what you mean; not to affect your reader, but to affect him precisely as you wish.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Robert Louis Steve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2:22:53Z</dcterms:created>
  <dc:creator>nave1386</dc:creator>
  <dc:description/>
  <dc:language>en-US</dc:language>
  <cp:lastModifiedBy>nave1386</cp:lastModifiedBy>
  <dcterms:modified xsi:type="dcterms:W3CDTF">2010-09-13T22:57:41Z</dcterms:modified>
  <cp:revision>29</cp:revision>
  <dc:subject/>
  <dc:title>WORLD LITERATURE</dc:title>
</cp:coreProperties>
</file>